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DA2-59C5-4E8D-B2E0-BC09AEFA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A07-0369-45CE-9319-44B73B33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E3A-61E2-4721-BFE1-233B6255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BD5-F886-4CDF-A144-32A886AA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FCDF-238D-46E2-AA07-ADB85259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9518-E3A0-4012-8DA2-9463CDE7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151A-63C8-4DEB-93C1-BE57382F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7122-D5B6-4133-8F18-0A6E1576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6827-C08D-4ABE-80A5-4B1C05DF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37B4-FD65-4468-9695-8715551E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C70D-13E9-4539-AC6C-EAA6724B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68A-68FD-4653-893F-A78FF235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349D-D742-4D72-A60F-0B444AF4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B925-C818-4440-B922-0E6B1F85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AC56-D7F2-4BA9-93C9-3D1212DA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4E4B-6793-4E93-B7E1-07753A9C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7A9E-2AAE-46A4-9C0E-787D5359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7731-5E85-489B-8024-9BF0249F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6B4A-67F8-4AF3-96CA-EB4FD43E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7405-283B-49C1-B10E-1012052B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A62C-B545-467F-8FA9-7673F6E3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916D9-A799-4A9C-BF04-1A40352D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F3E-0750-4510-AD84-59AE3ECF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9F6A-F536-42E9-BC9D-A7E8F8A9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66D87-E57C-49D9-B135-4727DAC9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1BA9-04F3-4060-9972-3C100AAD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51BE4-921C-4D38-BC84-C97738B0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154A-5153-470A-9244-498DD950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2A28-46A5-4C98-8A53-4B0F6002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C8C7-6BCE-4F00-967B-5ABDA0BC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6F184-CC32-4945-979E-9FCB72ED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7C77A-94B1-4E7F-B1D8-45BB7D65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EB09-FBBF-4A90-9A25-5868F7F8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895-1CCB-46A9-B2DE-BD1EC563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093F2-47F8-4653-8B5A-750AE68D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F3D85-7F05-426C-A80D-E271784D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93A55-F69F-428B-A968-67177825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4E574-2A89-4236-B75A-413E613D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A36D3-98AD-4E8F-B676-F5EC5AE3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959D4-F686-45B6-A670-F1CA917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53605-F7BB-4962-B5A4-9FF174AD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34F08-F989-4F07-B989-68DB7D2C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20C1-9093-40DF-99E6-29225AC1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DE0A5-85F8-474A-9E79-800E66BE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DBD-3E97-4EA5-AD12-75BB4347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76C26-8A4D-48FD-84F5-82DB6993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B8F06-FAC0-40F6-BE48-D469D7CB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DFF2-7DF2-4793-84DE-896AC664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A32B3-F869-4A75-BC60-47A38A7B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5648D-D3C4-4695-BDDC-DB267221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FE034-2D50-49A3-B9C8-4D8E0450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03825-E378-4F4D-8AE5-4B4673BA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735D6-C983-429C-B554-4131E8A5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7A226-BCEC-418B-9221-18802143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87C51-60F6-4CD3-B87C-4BC04CF7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C9F-F461-44F2-AEBD-AB2EF0B8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C5A56-6292-4842-AC50-BFD3D2FB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A2964-590A-4008-9F37-6A89A389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B9B33-F15B-4488-BAE9-51717122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FB7A-9E6F-4A73-A5D9-4185E273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AF331-B4EF-4BA4-ADD6-51246753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C9675-0BD6-4DA8-8C00-8630E31F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F6891-C897-4E98-ACCD-EF85ED93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41B99-F138-4AC2-916C-D0CCE770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DADE9-8C0D-487D-B2F2-9C1FBD07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B253D-B87D-41FC-856E-35293B2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BBA-5C62-4565-ACB1-E09D95DB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598F-B9A3-4AD6-8992-FA7B470E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3CA2F-7672-4A56-A25D-2C26D09D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2BFAE-8CAF-49E6-8FA1-2DFAED8A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F00CE-379B-4D84-8631-88869FCC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34F86-5049-464E-AA0B-24DC9B86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3E0EA-1AB9-4EA7-9429-3DE2E840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98D92-59B0-4526-9E75-72B4B103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9E486-B9D3-4C09-A1F0-69213C5E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A671A-DAE9-4AEF-8BCC-40AB3085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CAE84-5E6A-446E-965D-F5AE2B0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4CE-BB8B-4A16-B1D8-14DCDAA5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05C34-0878-47FC-9321-75142A22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05B50-F993-4DFF-8888-82FA4DBC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4C07C-5429-4729-BADC-60F9659A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86C32-4079-45DE-97AB-9A881CF2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12707-F0F5-480D-A11B-FCBD096F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06D-180E-4A29-A884-84EFC831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0624-8A18-48DA-BCB4-DDA2FEA2B27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CE60-C082-41FB-ADDE-0A6584DC903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81C1-8B8A-44ED-854E-84DC864D7F7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9EC4-87A9-4E72-AE38-3FBD5E75221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5D84-7D21-4840-990A-83644110716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144A-46A3-4931-AC24-298E3E4A049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F17A-FBF0-47F3-BEF4-BCD16443CB5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1857240" y="100224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а-викторина по английскому язы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учащихся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-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5835600" y="471492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Дулеп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Удачненск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5294160" cy="343512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1" descr=""/>
          <p:cNvPicPr/>
          <p:nvPr/>
        </p:nvPicPr>
        <p:blipFill>
          <a:blip r:embed="rId2"/>
          <a:stretch/>
        </p:blipFill>
        <p:spPr>
          <a:xfrm>
            <a:off x="189000" y="1500120"/>
            <a:ext cx="83325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1207800" y="1571760"/>
            <a:ext cx="637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white, cold and sw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ll children lik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мороженое.jpg"/>
          <p:cNvPicPr/>
          <p:nvPr/>
        </p:nvPicPr>
        <p:blipFill>
          <a:blip r:embed="rId1"/>
          <a:stretch/>
        </p:blipFill>
        <p:spPr>
          <a:xfrm>
            <a:off x="3000240" y="1857240"/>
            <a:ext cx="3124440" cy="28339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2"/>
          <p:cNvSpPr/>
          <p:nvPr/>
        </p:nvSpPr>
        <p:spPr>
          <a:xfrm>
            <a:off x="3880080" y="51436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ce-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559440" y="1714680"/>
            <a:ext cx="786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not a man, it’s not a woma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it teaches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1" descr="книга.jpg"/>
          <p:cNvPicPr/>
          <p:nvPr/>
        </p:nvPicPr>
        <p:blipFill>
          <a:blip r:embed="rId1"/>
          <a:stretch/>
        </p:blipFill>
        <p:spPr>
          <a:xfrm>
            <a:off x="2714760" y="1857240"/>
            <a:ext cx="3638520" cy="28512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2"/>
          <p:cNvSpPr/>
          <p:nvPr/>
        </p:nvSpPr>
        <p:spPr>
          <a:xfrm>
            <a:off x="3681720" y="50720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1049040" y="214200"/>
            <a:ext cx="648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6a08"/>
                </a:solidFill>
                <a:latin typeface="Candara"/>
              </a:rPr>
              <a:t>Match the proverb and its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3"/>
          <p:cNvSpPr/>
          <p:nvPr/>
        </p:nvSpPr>
        <p:spPr>
          <a:xfrm>
            <a:off x="0" y="928800"/>
            <a:ext cx="4143240" cy="107136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 friend in nee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 friend ind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5"/>
          <p:cNvSpPr/>
          <p:nvPr/>
        </p:nvSpPr>
        <p:spPr>
          <a:xfrm>
            <a:off x="0" y="3214800"/>
            <a:ext cx="307188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ll is well that end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6"/>
          <p:cNvSpPr/>
          <p:nvPr/>
        </p:nvSpPr>
        <p:spPr>
          <a:xfrm>
            <a:off x="2571840" y="2143080"/>
            <a:ext cx="371484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While there is life, there is h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7"/>
          <p:cNvSpPr/>
          <p:nvPr/>
        </p:nvSpPr>
        <p:spPr>
          <a:xfrm>
            <a:off x="357120" y="5143680"/>
            <a:ext cx="335772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You can’t eat cake and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8"/>
          <p:cNvSpPr/>
          <p:nvPr/>
        </p:nvSpPr>
        <p:spPr>
          <a:xfrm>
            <a:off x="3000240" y="4214880"/>
            <a:ext cx="2786040" cy="107136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astes differ</a:t>
            </a:r>
            <a:r>
              <a:rPr b="0" lang="en-US" sz="1800" spc="-1" strike="noStrike">
                <a:solidFill>
                  <a:srgbClr val="8fb5e5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9"/>
          <p:cNvSpPr/>
          <p:nvPr/>
        </p:nvSpPr>
        <p:spPr>
          <a:xfrm>
            <a:off x="5857920" y="5000760"/>
            <a:ext cx="264312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No smoke without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10"/>
          <p:cNvSpPr/>
          <p:nvPr/>
        </p:nvSpPr>
        <p:spPr>
          <a:xfrm>
            <a:off x="6072120" y="3286080"/>
            <a:ext cx="278604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Better late than n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11"/>
          <p:cNvSpPr/>
          <p:nvPr/>
        </p:nvSpPr>
        <p:spPr>
          <a:xfrm>
            <a:off x="5786280" y="928800"/>
            <a:ext cx="307188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wo is a company, but three is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0" y="714240"/>
            <a:ext cx="45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r>
              <a:rPr b="0" lang="ru-RU" sz="2000" spc="-1" strike="noStrike">
                <a:solidFill>
                  <a:srgbClr val="0066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2"/>
          <p:cNvSpPr/>
          <p:nvPr/>
        </p:nvSpPr>
        <p:spPr>
          <a:xfrm>
            <a:off x="-225720" y="1500120"/>
            <a:ext cx="46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-167400" y="2214720"/>
            <a:ext cx="40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-144360" y="30002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-82800" y="3786120"/>
            <a:ext cx="172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ndara"/>
              </a:rPr>
              <a:t>Tastes differ</a:t>
            </a:r>
            <a:r>
              <a:rPr b="0" lang="en-US" sz="2000" spc="-1" strike="noStrike">
                <a:solidFill>
                  <a:srgbClr val="8fb5e5"/>
                </a:solidFill>
                <a:latin typeface="Candar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7"/>
          <p:cNvSpPr/>
          <p:nvPr/>
        </p:nvSpPr>
        <p:spPr>
          <a:xfrm>
            <a:off x="-146520" y="442908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8"/>
          <p:cNvSpPr/>
          <p:nvPr/>
        </p:nvSpPr>
        <p:spPr>
          <a:xfrm>
            <a:off x="-200520" y="507204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9"/>
          <p:cNvSpPr/>
          <p:nvPr/>
        </p:nvSpPr>
        <p:spPr>
          <a:xfrm>
            <a:off x="-117720" y="578628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3860280" y="71424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Друзья познаются в 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3885840" y="150012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лиш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3382920" y="2214720"/>
            <a:ext cx="39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ка живу- надею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дежда умирает после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2545200" y="300024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ё хорошо, что хорошо конч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5"/>
          <p:cNvSpPr/>
          <p:nvPr/>
        </p:nvSpPr>
        <p:spPr>
          <a:xfrm>
            <a:off x="1274400" y="3786120"/>
            <a:ext cx="40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вкус и цвет товарищ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6"/>
          <p:cNvSpPr/>
          <p:nvPr/>
        </p:nvSpPr>
        <p:spPr>
          <a:xfrm>
            <a:off x="2313000" y="442908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учше поздно, чем нико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3139200" y="5072040"/>
            <a:ext cx="43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 двумя зайцами погониш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 одного не пойм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8"/>
          <p:cNvSpPr/>
          <p:nvPr/>
        </p:nvSpPr>
        <p:spPr>
          <a:xfrm>
            <a:off x="2545920" y="5786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Нет дыма без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"/>
          <p:cNvSpPr/>
          <p:nvPr/>
        </p:nvSpPr>
        <p:spPr>
          <a:xfrm>
            <a:off x="642960" y="150012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is a big house in the centre of the pi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house is yellow with red ro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 are  two windows in the house and one door. To the left of the house there is a gree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the right of the house there are two flowers. One flower is red, the second flower is blue. Under the tree there is a black d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tree there is a white fat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203040" y="2214720"/>
            <a:ext cx="87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 have got four legs but I can’t w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1619280" y="90792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«Mistakes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395280" y="2205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peach, pear, chicken, apple, 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ail, cat, mouse, dog, rab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ird, airplane, kite, helicopter,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d, sun, green, purple,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old, warm, dry, sky, clo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2340000" y="98100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eck yoursel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468360" y="227664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peach, pear,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chicke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apple, ban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ai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at, mouse, dog,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i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irplane, kite, helicopter, 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red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green, purple,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cold, warm, dry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k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lo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900000" y="1125360"/>
            <a:ext cx="72723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умайте как можно больше новых слов, используя буквы данного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acknowledgement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1590840"/>
            <a:ext cx="7718400" cy="156672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5" descr="загруженное.jpg"/>
          <p:cNvPicPr/>
          <p:nvPr/>
        </p:nvPicPr>
        <p:blipFill>
          <a:blip r:embed="rId2"/>
          <a:stretch/>
        </p:blipFill>
        <p:spPr>
          <a:xfrm>
            <a:off x="3143160" y="4071960"/>
            <a:ext cx="2190960" cy="208584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6" descr=""/>
          <p:cNvPicPr/>
          <p:nvPr/>
        </p:nvPicPr>
        <p:blipFill>
          <a:blip r:embed="rId3"/>
          <a:stretch/>
        </p:blipFill>
        <p:spPr>
          <a:xfrm>
            <a:off x="3279600" y="2876400"/>
            <a:ext cx="22672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1" descr="стол.bmp"/>
          <p:cNvPicPr/>
          <p:nvPr/>
        </p:nvPicPr>
        <p:blipFill>
          <a:blip r:embed="rId1"/>
          <a:stretch/>
        </p:blipFill>
        <p:spPr>
          <a:xfrm>
            <a:off x="1643040" y="2071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" descr="стул.bmp"/>
          <p:cNvPicPr/>
          <p:nvPr/>
        </p:nvPicPr>
        <p:blipFill>
          <a:blip r:embed="rId2"/>
          <a:stretch/>
        </p:blipFill>
        <p:spPr>
          <a:xfrm>
            <a:off x="5143680" y="20718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"/>
          <p:cNvSpPr/>
          <p:nvPr/>
        </p:nvSpPr>
        <p:spPr>
          <a:xfrm>
            <a:off x="2103120" y="4572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5669640" y="4643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"/>
          <p:cNvSpPr/>
          <p:nvPr/>
        </p:nvSpPr>
        <p:spPr>
          <a:xfrm>
            <a:off x="228240" y="1857240"/>
            <a:ext cx="89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’m tall and green, I’m in the ga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1" descr="1233826343_the_isolated_tree_vector.jpg"/>
          <p:cNvPicPr/>
          <p:nvPr/>
        </p:nvPicPr>
        <p:blipFill>
          <a:blip r:embed="rId1"/>
          <a:stretch/>
        </p:blipFill>
        <p:spPr>
          <a:xfrm>
            <a:off x="2286000" y="1000080"/>
            <a:ext cx="4068720" cy="50720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961800" y="62150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1"/>
          <p:cNvSpPr/>
          <p:nvPr/>
        </p:nvSpPr>
        <p:spPr>
          <a:xfrm>
            <a:off x="459720" y="1643040"/>
            <a:ext cx="794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does not have legs, but it g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1" descr="часы.jpg"/>
          <p:cNvPicPr/>
          <p:nvPr/>
        </p:nvPicPr>
        <p:blipFill>
          <a:blip r:embed="rId1"/>
          <a:stretch/>
        </p:blipFill>
        <p:spPr>
          <a:xfrm>
            <a:off x="2857680" y="1722600"/>
            <a:ext cx="2786040" cy="277308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"/>
          <p:cNvSpPr/>
          <p:nvPr/>
        </p:nvSpPr>
        <p:spPr>
          <a:xfrm>
            <a:off x="3822840" y="50007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1"/>
          <p:cNvSpPr/>
          <p:nvPr/>
        </p:nvSpPr>
        <p:spPr>
          <a:xfrm>
            <a:off x="1005480" y="1357200"/>
            <a:ext cx="72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Two brother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they don’t see each 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1" descr="глаза.jpg"/>
          <p:cNvPicPr/>
          <p:nvPr/>
        </p:nvPicPr>
        <p:blipFill>
          <a:blip r:embed="rId1"/>
          <a:stretch/>
        </p:blipFill>
        <p:spPr>
          <a:xfrm>
            <a:off x="2857680" y="185724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2"/>
          <p:cNvSpPr/>
          <p:nvPr/>
        </p:nvSpPr>
        <p:spPr>
          <a:xfrm>
            <a:off x="4257720" y="4857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47:33Z</dcterms:created>
  <dc:creator>andy</dc:creator>
  <dc:description/>
  <dc:language>en-US</dc:language>
  <cp:lastModifiedBy>RePack by Diakov</cp:lastModifiedBy>
  <dcterms:modified xsi:type="dcterms:W3CDTF">2016-02-23T12:06:10Z</dcterms:modified>
  <cp:revision>43</cp:revision>
  <dc:subject/>
  <dc:title>Слайд 1</dc:title>
</cp:coreProperties>
</file>